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132D-64A4-4D3B-A71C-AC5C93E165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7F59-77F0-4736-BB52-929CA99214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B263-3268-4A35-8797-486E9A31B1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8687-FE2F-4E6B-A5C8-EB93D3F57A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7E49-CD36-43FE-B4E0-CB659B8C91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AEB7-3F81-498A-B0A4-955B6A2BA3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172F-1BC6-4C42-B868-C3677D7145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B892-7956-4806-8369-77D5126246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4F90-0518-4BC5-8A3F-617DE1F9E2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6A2-4B64-42AA-8D47-E63D7401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B0B-98A6-4173-9A21-98EAE742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667-9320-4BE2-80B2-8AB26809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11C-6C5C-4FEC-A3AF-39BDDA90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6CD-24B9-4195-92C4-B6E667F7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13E-909F-425C-984E-30178224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D5D-E5DB-4EB4-B307-0909DAD8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117-A3D3-409C-99F0-6B78C396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132-22EA-44EA-953C-64A7936C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52C-A197-4589-8203-5DD94B2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89F-1F00-4DFF-A4DC-2335C84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41C-9D51-40FE-8A00-9E4D998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699-6034-4DF2-BB4D-CEC7071623F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LILLA 9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RACION METAB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411480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apel del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querimientos de poder red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mpartimentalización enzimá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Homeostasis de la 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Niveles enzimáticos. Centros de control de las principales vías metabólicas: glicólisis, ciclo de Krebs, vía pentosa, gluconeogénesis, metabolismo del glucógeno, metabolismo de ácidos gr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exiones claves: glucosa-6-fosfato, piruvato y acetil coenzima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erfil metabólico de los órganos más importantes: cerebro, músculo, tejido adiposo, híg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daptación metabólica al ayuno prolongado. Ciclo ayuno-aliment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Metabolismo hepático entre estados de buena nutrición e inanición, mecanis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UTAS DE DEGRADACION DE LOS CARBONOS PROVENIENTES DE AMINOÁ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roducen 6 producto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XALACE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CETOGLUTA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MA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5292720" y="2852640"/>
            <a:ext cx="503280" cy="2952720"/>
          </a:xfrm>
          <a:custGeom>
            <a:avLst/>
            <a:gdLst>
              <a:gd name="textAreaLeft" fmla="*/ 0 w 503280"/>
              <a:gd name="textAreaRight" fmla="*/ 18180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"/>
          <p:cNvSpPr/>
          <p:nvPr/>
        </p:nvSpPr>
        <p:spPr>
          <a:xfrm>
            <a:off x="6084720" y="3716280"/>
            <a:ext cx="2735280" cy="129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LUCONEOGEN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5950080"/>
            <a:ext cx="8496000" cy="87588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ODOS LOS CARBONOS DE LOS AMINOÁCIDOS PUEDEN DEGRADARSE A 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EN EL 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90080"/>
            <a:ext cx="7769160" cy="800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a5a"/>
                </a:solidFill>
                <a:latin typeface="Times New Roman"/>
              </a:rPr>
              <a:t>ENCRUCIJADAS METABO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3454200" cy="19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LUCOSA-6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559320" y="4648320"/>
            <a:ext cx="3033720" cy="39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SA-6-FOSF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471680" y="3784680"/>
            <a:ext cx="2601720" cy="3668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GLUCONEOGE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006960" y="3855960"/>
            <a:ext cx="2386080" cy="3668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66960" y="5584680"/>
            <a:ext cx="281772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GLUCOGENOGE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90600" y="4503600"/>
            <a:ext cx="1738080" cy="784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LUC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NGUI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080040" y="5440320"/>
            <a:ext cx="288936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VIA DE LAS PENT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4356000" y="5589720"/>
            <a:ext cx="1297080" cy="5047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4927680" y="5153040"/>
            <a:ext cx="154080" cy="368280"/>
          </a:xfrm>
          <a:prstGeom prst="downArrow">
            <a:avLst>
              <a:gd name="adj1" fmla="val 50000"/>
              <a:gd name="adj2" fmla="val 5977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2"/>
          <p:cNvSpPr/>
          <p:nvPr/>
        </p:nvSpPr>
        <p:spPr>
          <a:xfrm>
            <a:off x="4284720" y="4005360"/>
            <a:ext cx="1297080" cy="504720"/>
          </a:xfrm>
          <a:prstGeom prst="pie">
            <a:avLst/>
          </a:prstGeom>
          <a:solidFill>
            <a:srgbClr val="ff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4062240" y="6161040"/>
            <a:ext cx="231480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VIA GLICO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2410920" y="4941720"/>
            <a:ext cx="100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484360" y="458136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7240" y="611280"/>
            <a:ext cx="77695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CEDENCIAS DEL PIRUV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 exó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Glucosa, fructosa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IA GLICOLITI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galactosa, Manos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 endogé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glucógeno ó almid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r trans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ala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MINOAC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urante la  Degra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erina,triptof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3886200" y="1700280"/>
            <a:ext cx="181080" cy="19875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733920" y="3809880"/>
            <a:ext cx="288720" cy="20196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7240" y="611280"/>
            <a:ext cx="77695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dencia de la Acetil-Co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ERPOS CET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684360" y="1484280"/>
            <a:ext cx="7632720" cy="1946880"/>
            <a:chOff x="684360" y="1484280"/>
            <a:chExt cx="7632720" cy="1946880"/>
          </a:xfrm>
        </p:grpSpPr>
        <p:graphicFrame>
          <p:nvGraphicFramePr>
            <p:cNvPr id="138" name="Object 4"/>
            <p:cNvGraphicFramePr/>
            <p:nvPr/>
          </p:nvGraphicFramePr>
          <p:xfrm>
            <a:off x="900000" y="2006640"/>
            <a:ext cx="4091040" cy="121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2006640"/>
                      <a:ext cx="4091040" cy="12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5"/>
            <p:cNvGraphicFramePr/>
            <p:nvPr/>
          </p:nvGraphicFramePr>
          <p:xfrm>
            <a:off x="5003640" y="1484280"/>
            <a:ext cx="2376720" cy="136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484280"/>
                      <a:ext cx="2376720" cy="13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6"/>
            <p:cNvSpPr/>
            <p:nvPr/>
          </p:nvSpPr>
          <p:spPr>
            <a:xfrm>
              <a:off x="684360" y="3032280"/>
              <a:ext cx="76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CETONA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CETOACETATO       D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-HIDROXIBUTI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7"/>
          <p:cNvSpPr/>
          <p:nvPr/>
        </p:nvSpPr>
        <p:spPr>
          <a:xfrm>
            <a:off x="468360" y="3584520"/>
            <a:ext cx="7488360" cy="30351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sintetizan en mitocondrias de hígado a partir de 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proceso se denomina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etogénesi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ocurre en situaciones metabólicas especiales (ayuno, diabe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n utilizados como fuente de energía por tejidos extrahepáticos (cerebro,corazón,C.Sup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230040"/>
            <a:ext cx="7769160" cy="83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a5a"/>
                </a:solidFill>
                <a:latin typeface="Times New Roman"/>
              </a:rPr>
              <a:t>Síntesis y degradación de trigliceridos en TEJIDO ADIP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5680" y="1373040"/>
            <a:ext cx="182556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878360" y="1449360"/>
            <a:ext cx="159696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286000" y="2971800"/>
            <a:ext cx="118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267080" y="281952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124000" y="3573360"/>
            <a:ext cx="128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Glicero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3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648320" y="3809880"/>
            <a:ext cx="131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c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gr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901600" y="4344840"/>
            <a:ext cx="204876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TRIGLICE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819520" y="51814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114440" y="5105520"/>
            <a:ext cx="152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911240" y="6094440"/>
            <a:ext cx="93636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652360" y="6094440"/>
            <a:ext cx="321480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Complejos ácido graso-albú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2895480" y="2209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5334120" y="2286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743200" y="327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518148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H="1">
            <a:off x="2700000" y="5516640"/>
            <a:ext cx="647640" cy="60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5148360" y="5445000"/>
            <a:ext cx="431640" cy="5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H="1">
            <a:off x="3048120" y="480060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4191120" y="48006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2"/>
          <p:cNvSpPr/>
          <p:nvPr/>
        </p:nvSpPr>
        <p:spPr>
          <a:xfrm>
            <a:off x="1747800" y="2281320"/>
            <a:ext cx="4657680" cy="3591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23"/>
          <p:cNvSpPr/>
          <p:nvPr/>
        </p:nvSpPr>
        <p:spPr>
          <a:xfrm>
            <a:off x="3559320" y="6016680"/>
            <a:ext cx="1377720" cy="512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4"/>
          <p:cNvSpPr/>
          <p:nvPr/>
        </p:nvSpPr>
        <p:spPr>
          <a:xfrm>
            <a:off x="2911320" y="6161040"/>
            <a:ext cx="586080" cy="152280"/>
          </a:xfrm>
          <a:prstGeom prst="rightArrow">
            <a:avLst>
              <a:gd name="adj1" fmla="val 50000"/>
              <a:gd name="adj2" fmla="val 9621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5"/>
          <p:cNvSpPr/>
          <p:nvPr/>
        </p:nvSpPr>
        <p:spPr>
          <a:xfrm>
            <a:off x="4998960" y="6161040"/>
            <a:ext cx="585720" cy="152280"/>
          </a:xfrm>
          <a:prstGeom prst="leftArrow">
            <a:avLst>
              <a:gd name="adj1" fmla="val 50000"/>
              <a:gd name="adj2" fmla="val 961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7375680" y="2344680"/>
            <a:ext cx="123336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7956720" y="270828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7304040" y="3137040"/>
            <a:ext cx="152244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ICEROL-3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7230960" y="4000680"/>
            <a:ext cx="166536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IGLICE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0"/>
          <p:cNvSpPr/>
          <p:nvPr/>
        </p:nvSpPr>
        <p:spPr>
          <a:xfrm>
            <a:off x="7956720" y="35733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69520" cy="453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en el Mús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12760" y="1793880"/>
            <a:ext cx="2378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vidad lig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p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516040" y="1525680"/>
            <a:ext cx="134640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35560" y="1830240"/>
            <a:ext cx="121608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914040" y="2668680"/>
            <a:ext cx="2167920" cy="100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</a:rPr>
              <a:t>A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</a:rPr>
              <a:t>Cuerpos ceto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Glucosa en sang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019920" y="2895480"/>
            <a:ext cx="761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975400" y="4192560"/>
            <a:ext cx="107964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259240" y="4192560"/>
            <a:ext cx="8352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187880" y="5334120"/>
            <a:ext cx="1530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934320" y="3200400"/>
            <a:ext cx="1676160" cy="3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sfocre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7086600" y="3962520"/>
            <a:ext cx="1143000" cy="702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re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174240" y="1052640"/>
            <a:ext cx="209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vidad inte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3733920" y="2287440"/>
            <a:ext cx="2184120" cy="8384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3809880" y="3124080"/>
            <a:ext cx="2041560" cy="91620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3276720" y="3124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7920000" y="3576600"/>
            <a:ext cx="542880" cy="3906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7691400" y="3652920"/>
            <a:ext cx="162000" cy="2379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3975120" y="4660920"/>
            <a:ext cx="1703520" cy="611280"/>
          </a:xfrm>
          <a:prstGeom prst="pie">
            <a:avLst/>
          </a:prstGeom>
          <a:noFill/>
          <a:ln cap="rnd"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248520" y="5638680"/>
            <a:ext cx="1904760" cy="30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licólisis &gt;&gt;&gt;C.Kre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2"/>
          <p:cNvSpPr/>
          <p:nvPr/>
        </p:nvSpPr>
        <p:spPr>
          <a:xfrm>
            <a:off x="586728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3"/>
          <p:cNvSpPr/>
          <p:nvPr/>
        </p:nvSpPr>
        <p:spPr>
          <a:xfrm flipH="1">
            <a:off x="3123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1062000" y="5405400"/>
            <a:ext cx="1914480" cy="63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CICLO DE C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CICLO GLU-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511680" y="4437000"/>
            <a:ext cx="209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vidad inte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4600" y="229680"/>
            <a:ext cx="7769160" cy="606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s de energía en Cere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841680" y="2211480"/>
            <a:ext cx="25488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345640" y="2058840"/>
            <a:ext cx="69588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94320" y="3430440"/>
            <a:ext cx="118476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748240" y="3887640"/>
            <a:ext cx="121968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5262840" y="3887640"/>
            <a:ext cx="75960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348720" y="5105520"/>
            <a:ext cx="2605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Transporte electroge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r la Na+ K+ ATP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etabolism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3429000" y="2666880"/>
            <a:ext cx="2124000" cy="6112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0"/>
          <p:cNvSpPr/>
          <p:nvPr/>
        </p:nvSpPr>
        <p:spPr>
          <a:xfrm>
            <a:off x="3581280" y="3276720"/>
            <a:ext cx="2090880" cy="4586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3733920" y="4419720"/>
            <a:ext cx="1703160" cy="610920"/>
          </a:xfrm>
          <a:prstGeom prst="pie">
            <a:avLst/>
          </a:prstGeom>
          <a:noFill/>
          <a:ln cap="rnd"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2"/>
          <p:cNvSpPr/>
          <p:nvPr/>
        </p:nvSpPr>
        <p:spPr>
          <a:xfrm flipV="1">
            <a:off x="1523880" y="3962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757080" y="4719600"/>
            <a:ext cx="160992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ieta 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0720" y="85680"/>
            <a:ext cx="8816760" cy="749520"/>
          </a:xfrm>
          <a:prstGeom prst="rect">
            <a:avLst/>
          </a:prstGeom>
          <a:solidFill>
            <a:srgbClr val="00e0a5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DOS DE HOMEOSTASIA DE LA GL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480" y="91440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61928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s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44360" y="1484280"/>
            <a:ext cx="18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SPRAN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356000" y="90792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es           combustibles u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6732720" y="838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rol Horm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125800" y="1486080"/>
            <a:ext cx="1004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0 – 4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067280" y="1628640"/>
            <a:ext cx="2449440" cy="579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La mayoría de los tejidos utilizan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659640" y="1916280"/>
            <a:ext cx="2305080" cy="64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tación glucos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jidos perifé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ucógeno,TG,sintesis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-9216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50920" y="2708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152280" y="4267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3924360" y="3933720"/>
            <a:ext cx="2663640" cy="130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lgunos C.CET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MUSCUL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algunos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209160" y="6746760"/>
            <a:ext cx="190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b-inani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289080" y="59817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3848760" y="5589720"/>
            <a:ext cx="2949840" cy="94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utiliza 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MUSCULO: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sol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6804000" y="3213000"/>
            <a:ext cx="216072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estimula la rotur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ucogeno hepático y 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684216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6653160" y="4292640"/>
            <a:ext cx="221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Hidrólisis TG y Cet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2052720" y="278280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 – 12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2052720" y="4294080"/>
            <a:ext cx="172548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2 hs –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2197080" y="595152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&gt;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8"/>
          <p:cNvGrpSpPr/>
          <p:nvPr/>
        </p:nvGrpSpPr>
        <p:grpSpPr>
          <a:xfrm>
            <a:off x="3995640" y="2565360"/>
            <a:ext cx="2481480" cy="1117440"/>
            <a:chOff x="3995640" y="2565360"/>
            <a:chExt cx="2481480" cy="1117440"/>
          </a:xfrm>
        </p:grpSpPr>
        <p:sp>
          <p:nvSpPr>
            <p:cNvPr id="233" name="Rectangle 25"/>
            <p:cNvSpPr/>
            <p:nvPr/>
          </p:nvSpPr>
          <p:spPr>
            <a:xfrm>
              <a:off x="3995640" y="2565360"/>
              <a:ext cx="2336760" cy="106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EREBRO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MUSCU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HIG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5396040" y="3103560"/>
              <a:ext cx="10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CIDOS GRA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5180040" y="3103560"/>
              <a:ext cx="217440" cy="504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Line 29"/>
          <p:cNvSpPr/>
          <p:nvPr/>
        </p:nvSpPr>
        <p:spPr>
          <a:xfrm flipV="1">
            <a:off x="7164360" y="148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7375680" y="1479600"/>
            <a:ext cx="116172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INSU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1"/>
          <p:cNvSpPr/>
          <p:nvPr/>
        </p:nvSpPr>
        <p:spPr>
          <a:xfrm flipV="1">
            <a:off x="6732720" y="23479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2"/>
          <p:cNvSpPr/>
          <p:nvPr/>
        </p:nvSpPr>
        <p:spPr>
          <a:xfrm flipV="1">
            <a:off x="6732720" y="1914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6727680" y="2776680"/>
            <a:ext cx="227664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4"/>
          <p:cNvSpPr/>
          <p:nvPr/>
        </p:nvSpPr>
        <p:spPr>
          <a:xfrm flipV="1">
            <a:off x="6588000" y="27813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6764400" y="3855960"/>
            <a:ext cx="22762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6630840" y="5084640"/>
            <a:ext cx="252288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otura de proteína mus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aminoácidos p/glucone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7"/>
          <p:cNvSpPr/>
          <p:nvPr/>
        </p:nvSpPr>
        <p:spPr>
          <a:xfrm flipV="1">
            <a:off x="6659640" y="38602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7159680" y="4719600"/>
            <a:ext cx="1162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RT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39"/>
          <p:cNvSpPr/>
          <p:nvPr/>
        </p:nvSpPr>
        <p:spPr>
          <a:xfrm flipV="1">
            <a:off x="6877080" y="472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0"/>
          <p:cNvSpPr/>
          <p:nvPr/>
        </p:nvSpPr>
        <p:spPr>
          <a:xfrm>
            <a:off x="6978600" y="6087960"/>
            <a:ext cx="2170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1"/>
          <p:cNvSpPr/>
          <p:nvPr/>
        </p:nvSpPr>
        <p:spPr>
          <a:xfrm flipV="1">
            <a:off x="6877080" y="609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1 Título"/>
          <p:cNvGrpSpPr/>
          <p:nvPr/>
        </p:nvGrpSpPr>
        <p:grpSpPr>
          <a:xfrm>
            <a:off x="-6480" y="66600"/>
            <a:ext cx="9156960" cy="1438200"/>
            <a:chOff x="-6480" y="66600"/>
            <a:chExt cx="9156960" cy="1438200"/>
          </a:xfrm>
        </p:grpSpPr>
        <p:pic>
          <p:nvPicPr>
            <p:cNvPr id="250" name="1 Título" descr=""/>
            <p:cNvPicPr/>
            <p:nvPr/>
          </p:nvPicPr>
          <p:blipFill>
            <a:blip r:embed="rId1"/>
            <a:stretch/>
          </p:blipFill>
          <p:spPr>
            <a:xfrm>
              <a:off x="-6480" y="66600"/>
              <a:ext cx="915696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0" y="71280"/>
              <a:ext cx="9144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amífero que se encuentra consumiendo alimentos ricos en hidratos de carbono, proteínas y lípido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2 CuadroTexto"/>
          <p:cNvSpPr/>
          <p:nvPr/>
        </p:nvSpPr>
        <p:spPr>
          <a:xfrm>
            <a:off x="642960" y="1571760"/>
            <a:ext cx="7929720" cy="5119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Enzimas,  productos y destino de los distintos productos de la digestió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Vías metabólicas se activ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Vías metabólicas inactiva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Indique lugar de la célula y tejidos en que se llevan a cabo estos proces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(Considere también la respiración celula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Cual es el destino final de los productos obtenidos en los distintos tejid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Hígado, músculo esquelético, músculo cardíaco, cereb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to 2"/>
          <p:cNvGraphicFramePr/>
          <p:nvPr/>
        </p:nvGraphicFramePr>
        <p:xfrm>
          <a:off x="468360" y="404640"/>
          <a:ext cx="8170920" cy="61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70920" cy="612936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58200" cy="11430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mífero en condiciones de ayuno (12 hs), en condiciones de ayuno prolongado?? En inanició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2 CuadroTexto"/>
          <p:cNvSpPr/>
          <p:nvPr/>
        </p:nvSpPr>
        <p:spPr>
          <a:xfrm>
            <a:off x="642960" y="1571760"/>
            <a:ext cx="7929720" cy="4480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Vías metabólicas se act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Vías metabólicas inactiv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ormonas que se libe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Indique lugar de la célula y tejidos en que se llevan a cabo estos proce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Considere también la respiración celul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Para que utilizan los productos obtenidos los distintos tejidos: Hígado, musculo esquelético, músculo cardíaco, cere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9288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umano durante una carrera de 100 m? durante una maratón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3 CuadroTexto"/>
          <p:cNvSpPr/>
          <p:nvPr/>
        </p:nvSpPr>
        <p:spPr>
          <a:xfrm>
            <a:off x="428760" y="1214280"/>
            <a:ext cx="8572320" cy="52131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Vías metabólicas que se activan para obtención de energía metabó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Vías metabólicas inactivas durante dura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Vías metabólicas que se activan después de cada actividad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Indique lugar de la célula y tejidos en que se llevan a cabo estos proc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Para que utilizan los productos obtenidos los distintos tejidos: Hígado, musculo esquelético, músculo cardíaco, cere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onsidere también la respiración cel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5" descr="http://t1.gstatic.com/images?q=tbn:ANd9GcQanq1xg4apUkwN2wbeChEIrHQA_TnThgy-FCZLyZQZXiqlD2iS"/>
          <p:cNvPicPr/>
          <p:nvPr/>
        </p:nvPicPr>
        <p:blipFill>
          <a:blip r:embed="rId1"/>
          <a:stretch/>
        </p:blipFill>
        <p:spPr>
          <a:xfrm>
            <a:off x="500040" y="1285920"/>
            <a:ext cx="4311720" cy="2895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ong.maimonides.edu/wp-content/uploads/2011/04/maratones.jpg"/>
          <p:cNvPicPr/>
          <p:nvPr/>
        </p:nvPicPr>
        <p:blipFill>
          <a:blip r:embed="rId2"/>
          <a:stretch/>
        </p:blipFill>
        <p:spPr>
          <a:xfrm>
            <a:off x="4143240" y="4000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mífero en situación de lucha o huí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rmonas que se liberan. Vías que se activan antes y después. Respiración celular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s: Cocodrilo, s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" descr="http://www.naturavets.es/Fotografia/images/anfibios/rana_saltarina.jpg"/>
          <p:cNvPicPr/>
          <p:nvPr/>
        </p:nvPicPr>
        <p:blipFill>
          <a:blip r:embed="rId1"/>
          <a:stretch/>
        </p:blipFill>
        <p:spPr>
          <a:xfrm>
            <a:off x="642960" y="363852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http://farm1.static.flickr.com/202/511369910_ee67ae558f.jpg"/>
          <p:cNvPicPr/>
          <p:nvPr/>
        </p:nvPicPr>
        <p:blipFill>
          <a:blip r:embed="rId2"/>
          <a:stretch/>
        </p:blipFill>
        <p:spPr>
          <a:xfrm>
            <a:off x="5072040" y="3357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2920" y="71280"/>
            <a:ext cx="8858160" cy="15004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icroorganismos  anaerobios facultativo, en un medio con suficiente fuente de carbono en condiciones anaeróbicas y en condiciones aeróbica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2 CuadroTexto"/>
          <p:cNvSpPr/>
          <p:nvPr/>
        </p:nvSpPr>
        <p:spPr>
          <a:xfrm>
            <a:off x="1214280" y="3571920"/>
            <a:ext cx="6786720" cy="2226960"/>
          </a:xfrm>
          <a:prstGeom prst="rect">
            <a:avLst/>
          </a:prstGeom>
          <a:solidFill>
            <a:srgbClr val="d9d9d9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Fuentes de ener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Vías metabólicas de obtenc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Utiliz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roductos del metabolismo aeróbico y anaerób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2" descr="http://t1.gstatic.com/images?q=tbn:ANd9GcQ1Yt-e1pnQxoX4UWaEkMnjhwUePluPzDsL8u62F0u-ZWqdMtz5"/>
          <p:cNvPicPr/>
          <p:nvPr/>
        </p:nvPicPr>
        <p:blipFill>
          <a:blip r:embed="rId1"/>
          <a:stretch/>
        </p:blipFill>
        <p:spPr>
          <a:xfrm>
            <a:off x="642960" y="1643040"/>
            <a:ext cx="272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458200" cy="15382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n animales que hibernan, antes del período de hibernación? Y durante dicho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981080"/>
            <a:ext cx="7772400" cy="237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tesis de grasa, necesidad de 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ínas desacoplantes,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1 Título"/>
          <p:cNvSpPr/>
          <p:nvPr/>
        </p:nvSpPr>
        <p:spPr>
          <a:xfrm>
            <a:off x="-142920" y="4643280"/>
            <a:ext cx="9286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00000"/>
                </a:solidFill>
                <a:latin typeface="Times New Roman"/>
              </a:rPr>
              <a:t>Para</a:t>
            </a:r>
            <a:r>
              <a:rPr b="1" lang="es-ES" sz="3200" spc="-1" strike="noStrike">
                <a:solidFill>
                  <a:srgbClr val="c00000"/>
                </a:solidFill>
                <a:latin typeface="Times New Roman"/>
              </a:rPr>
              <a:t> el mantenimiento del calor corporal en bebé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36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36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643960" cy="16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nimales que viven en lugares desértic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14240" y="221472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Vías metabólicas que se act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89864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umano con una dieta rica en ácidos grasos de número impar de átomos de carbono, sin consumo de hidratos de carbon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7858080" cy="37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Vias metabólicas a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Productos de ´vías catabó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estino de los productos ob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Tejidos que utilizan mas activamente estos produc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UTAS METABO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2217" t="10492" r="12633" b="54240"/>
          <a:stretch/>
        </p:blipFill>
        <p:spPr>
          <a:xfrm>
            <a:off x="179280" y="1628640"/>
            <a:ext cx="8640720" cy="506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348000" y="3500280"/>
            <a:ext cx="1008000" cy="703800"/>
          </a:xfrm>
          <a:prstGeom prst="rect">
            <a:avLst/>
          </a:prstGeom>
          <a:solidFill>
            <a:srgbClr val="bdbde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4000" y="458136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tabolismo con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24360" y="501336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Catabolismo Di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468360" y="1197000"/>
            <a:ext cx="3902040" cy="155556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icól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ía de las pentosas fosf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54520" y="2492280"/>
            <a:ext cx="4389480" cy="192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l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sforilación oxid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oxidación de los á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ción de 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116000" y="5373720"/>
            <a:ext cx="6465960" cy="1189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e0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relación entre ambos compart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63680" y="2919240"/>
            <a:ext cx="3752640" cy="2313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182600" y="3495600"/>
            <a:ext cx="2241720" cy="11620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8"/>
          <p:cNvSpPr/>
          <p:nvPr/>
        </p:nvSpPr>
        <p:spPr>
          <a:xfrm>
            <a:off x="1344600" y="3595680"/>
            <a:ext cx="1906560" cy="8888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2916000" y="2852640"/>
            <a:ext cx="1942920" cy="10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826920" y="270828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 flipV="1">
            <a:off x="2124000" y="422064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2124000" y="5011200"/>
            <a:ext cx="43200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solidFill>
            <a:srgbClr val="c2fff0"/>
          </a:solidFill>
          <a:ln w="9360">
            <a:solidFill>
              <a:srgbClr val="c2fff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ompartimentalizacion de las distintas vías metabó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90828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GULACION DEL METABO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4000" y="19177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08000" y="37879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76720" y="1125360"/>
            <a:ext cx="280800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z. Alosté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276720" y="2062080"/>
            <a:ext cx="280800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844720" y="3716280"/>
            <a:ext cx="316728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c.de 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8"/>
          <p:cNvSpPr/>
          <p:nvPr/>
        </p:nvSpPr>
        <p:spPr>
          <a:xfrm>
            <a:off x="5786280" y="2646360"/>
            <a:ext cx="3286440" cy="173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0" bIns="39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HORM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6084720" y="2491920"/>
            <a:ext cx="503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940000" y="3860640"/>
            <a:ext cx="576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2700360" y="981000"/>
            <a:ext cx="576360" cy="2376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2484360" y="3645000"/>
            <a:ext cx="432000" cy="720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0" y="5661000"/>
            <a:ext cx="5040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MENTALIZ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148360" y="5013360"/>
            <a:ext cx="3635280" cy="1572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MB.MITOC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PLEJOS. MULTI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5003640" y="4869000"/>
            <a:ext cx="216000" cy="1989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1840 h 1989000"/>
              <a:gd name="textAreaBottom" fmla="*/ 1937160 h 19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de la  VIA GLICOLITICA ó Vía de Embde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yerh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XIDACION DE (1) GLUCOSA-6-FOSFATO HASTA (2)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BTENCION DE ENERGIA COMO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ZACION DE INTERMEDIARIOS PARA OTRAS VIAS METABO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4a4a68"/>
              </a:gs>
              <a:gs pos="50000">
                <a:srgbClr val="a0a0e0"/>
              </a:gs>
              <a:gs pos="100000">
                <a:srgbClr val="4a4a68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Puntos de Regulación de la Glicólisi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24000" y="170028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Hexoquin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Fosfofructoquinas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(+) ADP ó 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(-) ATP, NADH, Citrato y AG de cadena l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de la Vía Glic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Piruvato Qui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9280" y="2276640"/>
            <a:ext cx="273528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79280" y="4005360"/>
            <a:ext cx="316872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788000" y="3933720"/>
            <a:ext cx="360036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00720" y="2205000"/>
            <a:ext cx="460836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LUCOGENO-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132000" y="234936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492360" y="400536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síntesis y degradación de glucógeno está cuidadosamente regulada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50920" y="1268280"/>
            <a:ext cx="8675640" cy="551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E LUGAR PRINCIPALMENTE E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INTETIZ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 PARTIR DE PRECURSORES QUE NO SON HIDRATOS DE CARB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CURSOR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CETOA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C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 UN PROCESO QUE CONSUM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4:00:43Z</dcterms:created>
  <dc:creator>pc</dc:creator>
  <dc:description/>
  <dc:language>en-US</dc:language>
  <cp:lastModifiedBy>Usuario</cp:lastModifiedBy>
  <dcterms:modified xsi:type="dcterms:W3CDTF">2013-06-04T14:30:30Z</dcterms:modified>
  <cp:revision>96</cp:revision>
  <dc:subject/>
  <dc:title>Destinos de Piruvato y de Acetil-CoA</dc:title>
</cp:coreProperties>
</file>